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8536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169920"/>
            <a:ext cx="10464840" cy="120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319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269720" y="598536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319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0816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4660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26972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80816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34660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269720" y="2021040"/>
            <a:ext cx="10464840" cy="75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1046484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269720" y="169920"/>
            <a:ext cx="10464840" cy="120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319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269720" y="598536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319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0816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4660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26972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80816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34660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269720" y="2021040"/>
            <a:ext cx="10464840" cy="75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1046484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269720" y="169920"/>
            <a:ext cx="10464840" cy="120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6319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269720" y="598536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6319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0816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4660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26972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80816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834660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269720" y="2021040"/>
            <a:ext cx="10464840" cy="75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1046484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269720" y="169920"/>
            <a:ext cx="10464840" cy="120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021040"/>
            <a:ext cx="10464840" cy="75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319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269720" y="598536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319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0816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4660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26972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80816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34660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269720" y="2021040"/>
            <a:ext cx="10464840" cy="75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1046484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1046484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269720" y="169920"/>
            <a:ext cx="10464840" cy="120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319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269720" y="598536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6319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0816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4660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126972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80816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834660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9920"/>
            <a:ext cx="10464840" cy="120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021040"/>
            <a:ext cx="10464840" cy="75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8536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021040"/>
            <a:ext cx="10464840" cy="75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1046484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1046484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169920"/>
            <a:ext cx="10464840" cy="120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98536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021040"/>
            <a:ext cx="10464840" cy="75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1046484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169920"/>
            <a:ext cx="10464840" cy="120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98536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69720" y="2021040"/>
            <a:ext cx="10464840" cy="75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1046484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269720" y="169920"/>
            <a:ext cx="10464840" cy="120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319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269720" y="598536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319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9920"/>
            <a:ext cx="10464840" cy="120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816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4660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26972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80816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34660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69720" y="2021040"/>
            <a:ext cx="10464840" cy="75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1046484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69720" y="169920"/>
            <a:ext cx="10464840" cy="120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19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269720" y="598536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319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816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4660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26972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80816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34660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021040"/>
            <a:ext cx="10464840" cy="75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1046484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9920"/>
            <a:ext cx="10464840" cy="120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98536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021040"/>
            <a:ext cx="10464840" cy="75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1046484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9920"/>
            <a:ext cx="10464840" cy="120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985360"/>
            <a:ext cx="1046484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02104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985360"/>
            <a:ext cx="5106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02104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985360"/>
            <a:ext cx="3369600" cy="362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269720" y="2021040"/>
            <a:ext cx="10464840" cy="75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021040"/>
            <a:ext cx="1046484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454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0"/>
            <a:ext cx="1046484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69720" y="2774880"/>
            <a:ext cx="5105160" cy="608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54760" indent="-31680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980640" indent="-31680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396440" indent="-31680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42480" indent="-31680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297880" indent="-31644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297880" indent="-31644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297880" indent="-31644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607160" y="2774880"/>
            <a:ext cx="4127760" cy="608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483480" indent="-2761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55000" indent="-2761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17520" indent="-2761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6320" indent="-2761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03400" indent="-2761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03400" indent="-2761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03400" indent="-2761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65808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144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619280" indent="-38736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1276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647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647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647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095200"/>
            <a:ext cx="10464840" cy="744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8904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516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8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34000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924280" indent="-43524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924280" indent="-43524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924280" indent="-43524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69720" y="2021040"/>
            <a:ext cx="10464840" cy="758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3980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859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819440" indent="-43524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39076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97504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97504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97504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596520" y="4940280"/>
            <a:ext cx="6032520" cy="48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596520" y="-360"/>
            <a:ext cx="6032520" cy="48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269720" y="2774880"/>
            <a:ext cx="5105160" cy="608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54760" indent="-31680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980640" indent="-31680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396440" indent="-31680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42480" indent="-31680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297880" indent="-31644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297880" indent="-31644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297880" indent="-31644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0"/>
            <a:ext cx="10464840" cy="294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269720" y="2945880"/>
            <a:ext cx="10464840" cy="680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11360" indent="-40644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57480" indent="-40644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90640" indent="-40644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362320" indent="-40644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946240" indent="-4060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946240" indent="-4060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946240" indent="-4060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7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halkboard"/>
              </a:rPr>
              <a:t>Lição 6</a:t>
            </a:r>
            <a:endParaRPr b="0" lang="en-US" sz="9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72760" y="101160"/>
            <a:ext cx="10464840" cy="199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A Família e os Parentes da Nenê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>
            <a:off x="2616120" y="1587600"/>
            <a:ext cx="8180640" cy="461016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6159960" y="4664520"/>
            <a:ext cx="1335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1445"/>
                </a:solidFill>
                <a:latin typeface="Chalkboard"/>
                <a:ea typeface="Chalkboard"/>
              </a:rPr>
              <a:t>Nenê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2" name=""/>
          <p:cNvSpPr/>
          <p:nvPr/>
        </p:nvSpPr>
        <p:spPr>
          <a:xfrm>
            <a:off x="404640" y="7296120"/>
            <a:ext cx="12636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halkboard"/>
                <a:ea typeface="Chalkboard"/>
              </a:rPr>
              <a:t>A Nenê tem um </a:t>
            </a:r>
            <a:r>
              <a:rPr b="0" lang="en-US" sz="3500" spc="-1" strike="noStrike">
                <a:solidFill>
                  <a:srgbClr val="66b132"/>
                </a:solidFill>
                <a:latin typeface="Chalkboard"/>
                <a:ea typeface="Chalkboard"/>
              </a:rPr>
              <a:t>marido</a:t>
            </a:r>
            <a:r>
              <a:rPr b="0" lang="en-US" sz="3500" spc="-1" strike="noStrike">
                <a:solidFill>
                  <a:srgbClr val="ffffff"/>
                </a:solidFill>
                <a:latin typeface="Chalkboard"/>
                <a:ea typeface="Chalkboard"/>
              </a:rPr>
              <a:t>. Tem dois </a:t>
            </a:r>
            <a:r>
              <a:rPr b="0" lang="en-US" sz="3500" spc="-1" strike="noStrike">
                <a:solidFill>
                  <a:srgbClr val="66b132"/>
                </a:solidFill>
                <a:latin typeface="Chalkboard"/>
                <a:ea typeface="Chalkboard"/>
              </a:rPr>
              <a:t>filhos</a:t>
            </a:r>
            <a:r>
              <a:rPr b="0" lang="en-US" sz="3500" spc="-1" strike="noStrike">
                <a:solidFill>
                  <a:srgbClr val="ffffff"/>
                </a:solidFill>
                <a:latin typeface="Chalkboard"/>
                <a:ea typeface="Chalkboard"/>
              </a:rPr>
              <a:t> (uma filha e um filho); 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halkboard"/>
                <a:ea typeface="Chalkboard"/>
              </a:rPr>
              <a:t>tem um </a:t>
            </a:r>
            <a:r>
              <a:rPr b="0" lang="en-US" sz="3500" spc="-1" strike="noStrike">
                <a:solidFill>
                  <a:srgbClr val="66b132"/>
                </a:solidFill>
                <a:latin typeface="Chalkboard"/>
                <a:ea typeface="Chalkboard"/>
              </a:rPr>
              <a:t>neto</a:t>
            </a:r>
            <a:r>
              <a:rPr b="0" lang="en-US" sz="3500" spc="-1" strike="noStrike">
                <a:solidFill>
                  <a:srgbClr val="ffffff"/>
                </a:solidFill>
                <a:latin typeface="Chalkboard"/>
                <a:ea typeface="Chalkboard"/>
              </a:rPr>
              <a:t>; tem uma </a:t>
            </a:r>
            <a:r>
              <a:rPr b="0" lang="en-US" sz="3500" spc="-1" strike="noStrike">
                <a:solidFill>
                  <a:srgbClr val="86cd4d"/>
                </a:solidFill>
                <a:latin typeface="Chalkboard"/>
                <a:ea typeface="Chalkboard"/>
              </a:rPr>
              <a:t>nora</a:t>
            </a:r>
            <a:r>
              <a:rPr b="0" lang="en-US" sz="3500" spc="-1" strike="noStrike">
                <a:solidFill>
                  <a:srgbClr val="ffffff"/>
                </a:solidFill>
                <a:latin typeface="Chalkboard"/>
                <a:ea typeface="Chalkboard"/>
              </a:rPr>
              <a:t>; tem um </a:t>
            </a:r>
            <a:r>
              <a:rPr b="0" lang="en-US" sz="3500" spc="-1" strike="noStrike">
                <a:solidFill>
                  <a:srgbClr val="86cd4d"/>
                </a:solidFill>
                <a:latin typeface="Chalkboard"/>
                <a:ea typeface="Chalkboard"/>
              </a:rPr>
              <a:t>genro</a:t>
            </a:r>
            <a:r>
              <a:rPr b="0" lang="en-US" sz="3500" spc="-1" strike="noStrike">
                <a:solidFill>
                  <a:srgbClr val="ffffff"/>
                </a:solidFill>
                <a:latin typeface="Chalkboard"/>
                <a:ea typeface="Chalkboard"/>
              </a:rPr>
              <a:t>; tem uma </a:t>
            </a:r>
            <a:r>
              <a:rPr b="0" lang="en-US" sz="3500" spc="-1" strike="noStrike">
                <a:solidFill>
                  <a:srgbClr val="86cd4d"/>
                </a:solidFill>
                <a:latin typeface="Chalkboard"/>
                <a:ea typeface="Chalkboard"/>
              </a:rPr>
              <a:t>irmã</a:t>
            </a:r>
            <a:r>
              <a:rPr b="0" lang="en-US" sz="3500" spc="-1" strike="noStrike">
                <a:solidFill>
                  <a:srgbClr val="ffffff"/>
                </a:solidFill>
                <a:latin typeface="Chalkboard"/>
                <a:ea typeface="Chalkboard"/>
              </a:rPr>
              <a:t>.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85160" y="2309760"/>
            <a:ext cx="11464560" cy="51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Quantos irmãos e irmãs você tem? </a:t>
            </a:r>
            <a:r>
              <a:rPr b="0" lang="en-US" sz="4200" spc="-1" strike="noStrike">
                <a:solidFill>
                  <a:srgbClr val="66b132"/>
                </a:solidFill>
                <a:latin typeface="Chalkboard"/>
                <a:ea typeface="Chalkboard"/>
              </a:rPr>
              <a:t>Eu tenho..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Quantos avôs e avós?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Quantos tios(as)?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Quantos primos(as)?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Quantos sobrinhos(as)?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Quantas esposos(as)?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Quantos filhos (as)?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... cunhados (as)?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4" name=""/>
          <p:cNvSpPr/>
          <p:nvPr/>
        </p:nvSpPr>
        <p:spPr>
          <a:xfrm>
            <a:off x="601920" y="952560"/>
            <a:ext cx="11163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halkboard"/>
                <a:ea typeface="Chalkboard"/>
              </a:rPr>
              <a:t>E VOCÊ? ESCREVA SOBRE A SUA FAMÍLIA E PARENTES.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71240" y="174600"/>
            <a:ext cx="10464840" cy="193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halkboard"/>
              </a:rPr>
              <a:t>O que você FEZ ontem?</a:t>
            </a:r>
            <a:br>
              <a:rPr sz="4500"/>
            </a:br>
            <a:r>
              <a:rPr b="0" lang="en-US" sz="4500" spc="-1" strike="noStrike">
                <a:solidFill>
                  <a:srgbClr val="ffffff"/>
                </a:solidFill>
                <a:latin typeface="Chalkboard"/>
              </a:rPr>
              <a:t>(Pretérito Perfeito)</a:t>
            </a:r>
            <a:endParaRPr b="0" lang="en-US" sz="45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5664240" y="2019240"/>
            <a:ext cx="6083280" cy="643896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477000" y="2127240"/>
            <a:ext cx="428148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Chalkboard"/>
              </a:rPr>
              <a:t>1. Eu acorde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Chalkboard"/>
              </a:rPr>
              <a:t>3. escovei os dente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Chalkboard"/>
              </a:rPr>
              <a:t>4. passei fio denta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Chalkboard"/>
              </a:rPr>
              <a:t>5. tomei banho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Chalkboard"/>
              </a:rPr>
              <a:t>6. me barbee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Chalkboard"/>
              </a:rPr>
              <a:t>7. me vest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Chalkboard"/>
              </a:rPr>
              <a:t>8. penteei o cabelo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Chalkboard"/>
              </a:rPr>
              <a:t>10. me maquie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Chalkboard"/>
              </a:rPr>
              <a:t>11. cozinhe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Chalkboard"/>
              </a:rPr>
              <a:t>12. comi..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66400"/>
            <a:ext cx="104648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Conhecendo o seu colega de trabalho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Pergunte e Responda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93480" y="1117080"/>
            <a:ext cx="10464840" cy="817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Quantos filhos você tem? </a:t>
            </a:r>
            <a:r>
              <a:rPr b="0" lang="en-US" sz="2200" spc="-1" strike="noStrike">
                <a:solidFill>
                  <a:srgbClr val="86cd4d"/>
                </a:solidFill>
                <a:latin typeface="Chalkboard"/>
              </a:rPr>
              <a:t>Eu tenho...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Qual é o dia do seu aniversário? </a:t>
            </a:r>
            <a:r>
              <a:rPr b="0" lang="en-US" sz="2200" spc="-1" strike="noStrike">
                <a:solidFill>
                  <a:srgbClr val="66b132"/>
                </a:solidFill>
                <a:latin typeface="Chalkboard"/>
              </a:rPr>
              <a:t>É dia D/M.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Quantas horas você trabalha por dia? </a:t>
            </a:r>
            <a:r>
              <a:rPr b="0" lang="en-US" sz="2200" spc="-1" strike="noStrike">
                <a:solidFill>
                  <a:srgbClr val="66b132"/>
                </a:solidFill>
                <a:latin typeface="Chalkboard"/>
              </a:rPr>
              <a:t>Eu trabalho ___ horas por dia.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Você tem irmãos? </a:t>
            </a:r>
            <a:r>
              <a:rPr b="0" lang="en-US" sz="2200" spc="-1" strike="noStrike">
                <a:solidFill>
                  <a:srgbClr val="66b132"/>
                </a:solidFill>
                <a:latin typeface="Chalkboard"/>
              </a:rPr>
              <a:t>Sim, eu tenho.../ Não...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Você é solteiro?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Você tem uma família grande ou pequena?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Quantas casas você tem no Brasil?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O que você gosta de fazer no fim de semana?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Você trabalhou ontem? O que você fez?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0" name=""/>
          <p:cNvSpPr/>
          <p:nvPr/>
        </p:nvSpPr>
        <p:spPr>
          <a:xfrm>
            <a:off x="7861320" y="4152960"/>
            <a:ext cx="4140360" cy="4559400"/>
          </a:xfrm>
          <a:custGeom>
            <a:avLst/>
            <a:gdLst>
              <a:gd name="textAreaLeft" fmla="*/ 55440 w 4140360"/>
              <a:gd name="textAreaRight" fmla="*/ 4084920 w 4140360"/>
              <a:gd name="textAreaTop" fmla="*/ 55440 h 4559400"/>
              <a:gd name="textAreaBottom" fmla="*/ 4503960 h 4559400"/>
            </a:gdLst>
            <a:ahLst/>
            <a:rect l="textAreaLeft" t="textAreaTop" r="textAreaRight" b="textAreaBottom"/>
            <a:pathLst>
              <a:path w="21600" h="23786">
                <a:moveTo>
                  <a:pt x="993" y="0"/>
                </a:moveTo>
                <a:arcTo wR="993" hR="993" stAng="16200000" swAng="-5400000"/>
                <a:lnTo>
                  <a:pt x="0" y="22793"/>
                </a:lnTo>
                <a:arcTo wR="993" hR="993" stAng="10800000" swAng="-5400000"/>
                <a:lnTo>
                  <a:pt x="20607" y="23786"/>
                </a:lnTo>
                <a:arcTo wR="993" hR="993" stAng="5400000" swAng="-5400000"/>
                <a:lnTo>
                  <a:pt x="21600" y="993"/>
                </a:lnTo>
                <a:arcTo wR="993" hR="993" stAng="0" swAng="-5400000"/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1" name=""/>
          <p:cNvSpPr/>
          <p:nvPr/>
        </p:nvSpPr>
        <p:spPr>
          <a:xfrm>
            <a:off x="7950240" y="4140360"/>
            <a:ext cx="39877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Regras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Use algumas expressões da língua portuguesa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Dê respostas completas. </a:t>
            </a:r>
            <a:r>
              <a:rPr b="0" lang="en-US" sz="2200" spc="-1" strike="noStrike">
                <a:solidFill>
                  <a:srgbClr val="2b4714"/>
                </a:solidFill>
                <a:latin typeface="Chalkboard Bold"/>
                <a:ea typeface="Chalkboard Bold"/>
              </a:rPr>
              <a:t>Exemplo: Você é casado? Sim, eu sou casado.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Anote ou lembre das respostas do seu colega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Pratique bastante!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749160" y="736560"/>
            <a:ext cx="1172232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  <a:ea typeface="Chalkboard"/>
              </a:rPr>
              <a:t>Artigos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halkboard"/>
                <a:ea typeface="Chalkboard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halkboard"/>
                <a:ea typeface="Chalkboard"/>
              </a:rPr>
              <a:t>Definido (o, a, os, as) - usa-se antes do substantivo conhecido do leitor ou do ouvinte (preciso)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halkboard"/>
                <a:ea typeface="Chalkboard"/>
              </a:rPr>
              <a:t>Indefinido (um, uma, uns, umas) - usa-se antes do substantivo desconhecido (vago)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b132"/>
                </a:solidFill>
                <a:latin typeface="Chalkboard"/>
                <a:ea typeface="Chalkboard"/>
              </a:rPr>
              <a:t>O empregado pediu aumento para o chefe. (conhecido do leitor)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b132"/>
                </a:solidFill>
                <a:latin typeface="Chalkboard"/>
                <a:ea typeface="Chalkboard"/>
              </a:rPr>
              <a:t>Um empregado pediu aumento. (desconhecido. Qual empregado?)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b132"/>
                </a:solidFill>
                <a:latin typeface="Chalkboard"/>
                <a:ea typeface="Chalkboard"/>
              </a:rPr>
              <a:t>A reunião é longa. (preciso)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b132"/>
                </a:solidFill>
                <a:latin typeface="Chalkboard"/>
                <a:ea typeface="Chalkboard"/>
              </a:rPr>
              <a:t>Algumas reuniões são longas. (vago. Qual reunião?)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55872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Como conquistar um cliente brasileiro?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3390840" y="3009960"/>
            <a:ext cx="6210360" cy="56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97160" y="2400120"/>
            <a:ext cx="1046448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Perguntas? 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...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Até a próxima aula!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Boa noite!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